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71FBD-2F1E-4997-9CD5-E3174E0E1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0CBCD-0D8F-432A-84D3-F03B3BF55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A8A51-2B8F-494A-B3AC-19C040E91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5F6AD-033C-45B1-BAF1-CC44E172E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A9C28-2369-4B26-9346-E3E0E40C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C07BC-AB58-41D8-A5A9-4444DC416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EE2F8-6522-43DC-9D04-B2192D3AD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EAB2A-6068-4ACB-A3ED-6ED9243B7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2C2F4-3C8F-48D3-AC65-035039393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7C4D7-852F-40D9-A312-1C4048FC9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4D5ED-6750-4A0D-B26A-A8526C05E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AFC3-8F1B-40EA-A2EE-CD6315A14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6B72-B8AB-4D6F-B334-21D3B9128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ycling:</a:t>
            </a:r>
            <a:br>
              <a:rPr sz="4400"/>
            </a:br>
            <a:r>
              <a:rPr b="0" lang="en-US" sz="2800" spc="-1" strike="noStrike">
                <a:solidFill>
                  <a:srgbClr val="000000"/>
                </a:solidFill>
                <a:latin typeface="Arial"/>
              </a:rPr>
              <a:t>Choices for your personal style</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Emily Sto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ycling Styl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a family that uses tons of bott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re you a family that writes everything down on pap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either one there is some material that you use all the time and is recyclable for when you are done with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know my family uses tons of cans, that is recyclab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n’t use a lot of any of those materials, chances are there is one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Start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eginning when you are about to start recycling make a plan. Decide which recyclables you want to try using. If you decide you want to go out of order, than that is easy not having to feel like you need to work up step by step. Look at the example to the right.</a:t>
            </a:r>
            <a:endParaRPr b="0" lang="en-US" sz="2400" spc="-1" strike="noStrike">
              <a:solidFill>
                <a:srgbClr val="000000"/>
              </a:solidFill>
              <a:latin typeface="Arial"/>
            </a:endParaRPr>
          </a:p>
        </p:txBody>
      </p:sp>
      <p:grpSp>
        <p:nvGrpSpPr>
          <p:cNvPr id="47" name=""/>
          <p:cNvGrpSpPr/>
          <p:nvPr/>
        </p:nvGrpSpPr>
        <p:grpSpPr>
          <a:xfrm>
            <a:off x="4529160" y="2146320"/>
            <a:ext cx="4278240" cy="3705120"/>
            <a:chOff x="4529160" y="2146320"/>
            <a:chExt cx="4278240" cy="3705120"/>
          </a:xfrm>
        </p:grpSpPr>
        <p:sp>
          <p:nvSpPr>
            <p:cNvPr id="48" name="_s5145"/>
            <p:cNvSpPr/>
            <p:nvPr/>
          </p:nvSpPr>
          <p:spPr>
            <a:xfrm>
              <a:off x="5362560" y="21463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5146"/>
            <p:cNvSpPr/>
            <p:nvPr/>
          </p:nvSpPr>
          <p:spPr>
            <a:xfrm rot="7200000">
              <a:off x="5719680" y="27619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 name="_s5148"/>
            <p:cNvSpPr/>
            <p:nvPr/>
          </p:nvSpPr>
          <p:spPr>
            <a:xfrm rot="14400000">
              <a:off x="5006520" y="2763720"/>
              <a:ext cx="2610000" cy="2610000"/>
            </a:xfrm>
            <a:custGeom>
              <a:avLst/>
              <a:gdLst>
                <a:gd name="textAreaLeft" fmla="*/ 0 w 2610000"/>
                <a:gd name="textAreaRight" fmla="*/ 2610360 w 2610000"/>
                <a:gd name="textAreaTop" fmla="*/ 0 h 2610000"/>
                <a:gd name="textAreaBottom" fmla="*/ 2610360 h 2610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5143"/>
            <p:cNvSpPr/>
            <p:nvPr/>
          </p:nvSpPr>
          <p:spPr>
            <a:xfrm>
              <a:off x="7383600" y="262404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pap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yclables</a:t>
              </a:r>
              <a:endParaRPr b="0" lang="en-US" sz="1200" spc="-1" strike="noStrike">
                <a:solidFill>
                  <a:srgbClr val="000000"/>
                </a:solidFill>
                <a:latin typeface="Arial"/>
              </a:endParaRPr>
            </a:p>
          </p:txBody>
        </p:sp>
        <p:sp>
          <p:nvSpPr>
            <p:cNvPr id="52" name="_s5144"/>
            <p:cNvSpPr/>
            <p:nvPr/>
          </p:nvSpPr>
          <p:spPr>
            <a:xfrm>
              <a:off x="6145200" y="476892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plast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cery bags</a:t>
              </a:r>
              <a:endParaRPr b="0" lang="en-US" sz="1200" spc="-1" strike="noStrike">
                <a:solidFill>
                  <a:srgbClr val="000000"/>
                </a:solidFill>
                <a:latin typeface="Arial"/>
              </a:endParaRPr>
            </a:p>
          </p:txBody>
        </p:sp>
        <p:sp>
          <p:nvSpPr>
            <p:cNvPr id="53" name="_s5147"/>
            <p:cNvSpPr/>
            <p:nvPr/>
          </p:nvSpPr>
          <p:spPr>
            <a:xfrm>
              <a:off x="4906800" y="2625840"/>
              <a:ext cx="1046160" cy="1046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 recyclab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Up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don’t want to make a chart like that. There is another way also. If you feel like you need to have certain levels going up by difficulty, well than try this type of organizer to the right.</a:t>
            </a:r>
            <a:endParaRPr b="0" lang="en-US" sz="2800" spc="-1" strike="noStrike">
              <a:solidFill>
                <a:srgbClr val="000000"/>
              </a:solidFill>
              <a:latin typeface="Arial"/>
            </a:endParaRPr>
          </a:p>
        </p:txBody>
      </p:sp>
      <p:grpSp>
        <p:nvGrpSpPr>
          <p:cNvPr id="56" name=""/>
          <p:cNvGrpSpPr/>
          <p:nvPr/>
        </p:nvGrpSpPr>
        <p:grpSpPr>
          <a:xfrm>
            <a:off x="4619880" y="2296800"/>
            <a:ext cx="4399200" cy="3232080"/>
            <a:chOff x="4619880" y="2296800"/>
            <a:chExt cx="4399200" cy="3232080"/>
          </a:xfrm>
        </p:grpSpPr>
        <p:sp>
          <p:nvSpPr>
            <p:cNvPr id="57" name="_s11275"/>
            <p:cNvSpPr/>
            <p:nvPr/>
          </p:nvSpPr>
          <p:spPr>
            <a:xfrm flipV="1">
              <a:off x="6381000" y="2296440"/>
              <a:ext cx="876960" cy="646920"/>
            </a:xfrm>
            <a:custGeom>
              <a:avLst/>
              <a:gdLst>
                <a:gd name="textAreaLeft" fmla="*/ 314640 w 876960"/>
                <a:gd name="textAreaRight" fmla="*/ 562320 w 876960"/>
                <a:gd name="textAreaTop" fmla="*/ 232200 h 646920"/>
                <a:gd name="textAreaBottom" fmla="*/ 414720 h 6469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p:txBody>
        </p:sp>
        <p:sp>
          <p:nvSpPr>
            <p:cNvPr id="58" name="_s11271"/>
            <p:cNvSpPr/>
            <p:nvPr/>
          </p:nvSpPr>
          <p:spPr>
            <a:xfrm flipV="1">
              <a:off x="5940360" y="2944080"/>
              <a:ext cx="1757880" cy="643680"/>
            </a:xfrm>
            <a:custGeom>
              <a:avLst/>
              <a:gdLst>
                <a:gd name="textAreaLeft" fmla="*/ 386640 w 1757880"/>
                <a:gd name="textAreaRight" fmla="*/ 1371240 w 1757880"/>
                <a:gd name="textAreaTop" fmla="*/ 141480 h 643680"/>
                <a:gd name="textAreaBottom" fmla="*/ 502200 h 6436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p:txBody>
        </p:sp>
        <p:sp>
          <p:nvSpPr>
            <p:cNvPr id="59" name="_s11274"/>
            <p:cNvSpPr/>
            <p:nvPr/>
          </p:nvSpPr>
          <p:spPr>
            <a:xfrm flipV="1">
              <a:off x="5500800" y="3587400"/>
              <a:ext cx="2637360" cy="646920"/>
            </a:xfrm>
            <a:custGeom>
              <a:avLst/>
              <a:gdLst>
                <a:gd name="textAreaLeft" fmla="*/ 457920 w 2637360"/>
                <a:gd name="textAreaRight" fmla="*/ 2179440 w 2637360"/>
                <a:gd name="textAreaTop" fmla="*/ 112320 h 646920"/>
                <a:gd name="textAreaBottom" fmla="*/ 534600 h 64692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p:txBody>
        </p:sp>
        <p:sp>
          <p:nvSpPr>
            <p:cNvPr id="60" name="_s11272"/>
            <p:cNvSpPr/>
            <p:nvPr/>
          </p:nvSpPr>
          <p:spPr>
            <a:xfrm flipV="1">
              <a:off x="5060160" y="4234680"/>
              <a:ext cx="3518280" cy="646920"/>
            </a:xfrm>
            <a:custGeom>
              <a:avLst/>
              <a:gdLst>
                <a:gd name="textAreaLeft" fmla="*/ 529200 w 3518280"/>
                <a:gd name="textAreaRight" fmla="*/ 2989080 w 3518280"/>
                <a:gd name="textAreaTop" fmla="*/ 97200 h 646920"/>
                <a:gd name="textAreaBottom" fmla="*/ 549720 h 64692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a:t>
              </a:r>
              <a:endParaRPr b="0" lang="en-US" sz="1200" spc="-1" strike="noStrike">
                <a:solidFill>
                  <a:srgbClr val="000000"/>
                </a:solidFill>
                <a:latin typeface="Arial"/>
              </a:endParaRPr>
            </a:p>
          </p:txBody>
        </p:sp>
        <p:sp>
          <p:nvSpPr>
            <p:cNvPr id="61" name="_s11273"/>
            <p:cNvSpPr/>
            <p:nvPr/>
          </p:nvSpPr>
          <p:spPr>
            <a:xfrm flipV="1">
              <a:off x="4619880" y="4881600"/>
              <a:ext cx="4399200" cy="646920"/>
            </a:xfrm>
            <a:custGeom>
              <a:avLst/>
              <a:gdLst>
                <a:gd name="textAreaLeft" fmla="*/ 600840 w 4399200"/>
                <a:gd name="textAreaRight" fmla="*/ 3798360 w 4399200"/>
                <a:gd name="textAreaTop" fmla="*/ 88200 h 646920"/>
                <a:gd name="textAreaBottom" fmla="*/ 558720 h 64692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 grocery bag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ing Styl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are an organized family than recycling should be easy and you will not need something to keep you on track. If you  are unorganized however than all you have to do is make a chart like the one to the right and hang it on a wall or somewhere that it will never get moved.</a:t>
            </a:r>
            <a:endParaRPr b="0" lang="en-US" sz="2600" spc="-1" strike="noStrike">
              <a:solidFill>
                <a:srgbClr val="000000"/>
              </a:solidFill>
              <a:latin typeface="Arial"/>
            </a:endParaRPr>
          </a:p>
        </p:txBody>
      </p:sp>
      <p:graphicFrame>
        <p:nvGraphicFramePr>
          <p:cNvPr id="64" name=""/>
          <p:cNvGraphicFramePr/>
          <p:nvPr/>
        </p:nvGraphicFramePr>
        <p:xfrm>
          <a:off x="4876920" y="1752480"/>
          <a:ext cx="4038480" cy="4468680"/>
        </p:xfrm>
        <a:graphic>
          <a:graphicData uri="http://schemas.openxmlformats.org/drawingml/2006/table">
            <a:tbl>
              <a:tblPr/>
              <a:tblGrid>
                <a:gridCol w="2019240"/>
                <a:gridCol w="2019240"/>
              </a:tblGrid>
              <a:tr h="218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sh and recycling b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bin= plastic recyclab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ff"/>
                    </a:solidFill>
                  </a:tcPr>
                </a:tc>
              </a:tr>
              <a:tr h="228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y bin (or whatever color your trash can is)= food or was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bin= paper recyclab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 the Word</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power point helps you with recycling than please spread the word this is an important message. This power point shows easy ways to remember the different recyclables and the bins they go in. It also shows ways to set a goal and work up to it in tiny steps. Tell lots of people just how easy recycling is as soon as you st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ver Ending Recyclabl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is a list of many things that are recyclable:</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boar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eri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b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Grocery Ba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9:18:45Z</dcterms:created>
  <dc:creator>17estoner</dc:creator>
  <dc:description/>
  <dc:language>en-US</dc:language>
  <cp:lastModifiedBy>Emily</cp:lastModifiedBy>
  <dcterms:modified xsi:type="dcterms:W3CDTF">2010-01-17T23:32:10Z</dcterms:modified>
  <cp:revision>5</cp:revision>
  <dc:subject/>
  <dc:title>Recycling: Choices for your personal style</dc:title>
</cp:coreProperties>
</file>